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B71E-FE9C-40B8-B843-012A3531A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36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36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36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36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D443-1A2D-4ECF-9587-995CC79D8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B7A4-3D4E-433C-B91F-C50550E6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85AB-FDED-4EEC-A8FF-EE42EE53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F0EE-D676-4BEA-93EA-085CF0F7C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822E-5B18-4419-9173-7BBF14266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779D-78A3-4D5F-AD03-6E82C777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7A7B-843E-4E0C-930A-BB163CE1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641C-2BE4-4EB7-8803-42B81257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DEED-A8C2-475F-80B4-201DA805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09C0-7086-4A56-A27A-220D2BA4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FCAB-FAAA-44A8-BF91-B45EAD77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1EEC-BFE5-4251-8412-0365E9D2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096A-8A90-463B-B7B3-A6059EA1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6F17-9EF8-458C-A109-150F78EE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66BF-F6A3-42F1-B95C-430FD628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7316-050E-4245-B499-F27542D04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04FE-1453-4358-9E5E-EC203F2C8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815C-5A93-4BAE-8464-DB15D607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45E4-229B-4194-906A-B6E3462C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A655-E939-4222-9B42-8033D594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1E21-A5FE-4075-9D8B-8F6F8111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1152-4359-4704-BAA3-4DF5AD0B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2764-1048-4E58-AAFF-86743C08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0A71-B643-4DD6-9E08-B5714566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C594-9610-4D38-8768-20E26195AF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46CF-EC54-4439-A427-64EE4C076E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ing Sear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CI 27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ing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leen Krae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mpleStringSear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[0]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t[1]        t[2]       t[3]       t[4]       t[5]      t[6]       t[7]      t[8]       t[9]       t1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" y="2057400"/>
          <a:ext cx="8229600" cy="685800"/>
        </p:xfrm>
        <a:graphic>
          <a:graphicData uri="http://schemas.openxmlformats.org/drawingml/2006/table">
            <a:tbl>
              <a:tblPr/>
              <a:tblGrid>
                <a:gridCol w="747720"/>
                <a:gridCol w="746280"/>
                <a:gridCol w="750600"/>
                <a:gridCol w="747720"/>
                <a:gridCol w="747720"/>
                <a:gridCol w="749520"/>
                <a:gridCol w="747720"/>
                <a:gridCol w="747720"/>
                <a:gridCol w="750600"/>
                <a:gridCol w="746280"/>
                <a:gridCol w="7477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1295280" y="3429000"/>
          <a:ext cx="2971800" cy="533520"/>
        </p:xfrm>
        <a:graphic>
          <a:graphicData uri="http://schemas.openxmlformats.org/drawingml/2006/table">
            <a:tbl>
              <a:tblPr/>
              <a:tblGrid>
                <a:gridCol w="743040"/>
                <a:gridCol w="742680"/>
                <a:gridCol w="743040"/>
                <a:gridCol w="74304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457200" y="29718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880" y="2855880"/>
            <a:ext cx="37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[0]       p[1]      p[2]      p[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mpleStringSear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[0]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t[1]        t[2]       t[3]       t[4]       t[5]      t[6]       t[7]      t[8]       t[9]       t1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2057400"/>
          <a:ext cx="8229600" cy="685800"/>
        </p:xfrm>
        <a:graphic>
          <a:graphicData uri="http://schemas.openxmlformats.org/drawingml/2006/table">
            <a:tbl>
              <a:tblPr/>
              <a:tblGrid>
                <a:gridCol w="747720"/>
                <a:gridCol w="746280"/>
                <a:gridCol w="750600"/>
                <a:gridCol w="747720"/>
                <a:gridCol w="747720"/>
                <a:gridCol w="749520"/>
                <a:gridCol w="747720"/>
                <a:gridCol w="747720"/>
                <a:gridCol w="750600"/>
                <a:gridCol w="746280"/>
                <a:gridCol w="7477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1981080" y="3429000"/>
          <a:ext cx="2971800" cy="533520"/>
        </p:xfrm>
        <a:graphic>
          <a:graphicData uri="http://schemas.openxmlformats.org/drawingml/2006/table">
            <a:tbl>
              <a:tblPr/>
              <a:tblGrid>
                <a:gridCol w="743040"/>
                <a:gridCol w="742680"/>
                <a:gridCol w="743040"/>
                <a:gridCol w="74304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457200" y="29718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2000" y="2855880"/>
            <a:ext cx="45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[0]       p[1]      p[2]      p[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5740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mpleStringSear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[0]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t[1]        t[2]       t[3]       t[4]       t[5]      t[6]       t[7]      t[8]       t[9]       t1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57200" y="2057400"/>
          <a:ext cx="8229600" cy="685800"/>
        </p:xfrm>
        <a:graphic>
          <a:graphicData uri="http://schemas.openxmlformats.org/drawingml/2006/table">
            <a:tbl>
              <a:tblPr/>
              <a:tblGrid>
                <a:gridCol w="747720"/>
                <a:gridCol w="746280"/>
                <a:gridCol w="750600"/>
                <a:gridCol w="747720"/>
                <a:gridCol w="747720"/>
                <a:gridCol w="749520"/>
                <a:gridCol w="747720"/>
                <a:gridCol w="747720"/>
                <a:gridCol w="750600"/>
                <a:gridCol w="746280"/>
                <a:gridCol w="7477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819520" y="3429000"/>
          <a:ext cx="2895480" cy="53352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761760"/>
                <a:gridCol w="762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457200" y="29718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9120" y="2855880"/>
            <a:ext cx="52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[0]       p[1]      p[2]      p[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44197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mpleStringSear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[0]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t[1]        t[2]       t[3]       t[4]       t[5]      t[6]       t[7]      t[8]       t[9]       t1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7200" y="2057400"/>
          <a:ext cx="8229600" cy="685800"/>
        </p:xfrm>
        <a:graphic>
          <a:graphicData uri="http://schemas.openxmlformats.org/drawingml/2006/table">
            <a:tbl>
              <a:tblPr/>
              <a:tblGrid>
                <a:gridCol w="747720"/>
                <a:gridCol w="746280"/>
                <a:gridCol w="750600"/>
                <a:gridCol w="747720"/>
                <a:gridCol w="747720"/>
                <a:gridCol w="749520"/>
                <a:gridCol w="747720"/>
                <a:gridCol w="747720"/>
                <a:gridCol w="750600"/>
                <a:gridCol w="746280"/>
                <a:gridCol w="7477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3505320" y="3429000"/>
          <a:ext cx="2895480" cy="53352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761760"/>
                <a:gridCol w="762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457200" y="29718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5880" y="2855880"/>
            <a:ext cx="60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[0]       p[1]      p[2]      p[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mpleStringSear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[0]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t[1]        t[2]       t[3]       t[4]       t[5]      t[6]       t[7]      t[8]       t[9]       t1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57200" y="2057400"/>
          <a:ext cx="8229600" cy="685800"/>
        </p:xfrm>
        <a:graphic>
          <a:graphicData uri="http://schemas.openxmlformats.org/drawingml/2006/table">
            <a:tbl>
              <a:tblPr/>
              <a:tblGrid>
                <a:gridCol w="747720"/>
                <a:gridCol w="746280"/>
                <a:gridCol w="750600"/>
                <a:gridCol w="747720"/>
                <a:gridCol w="747720"/>
                <a:gridCol w="749520"/>
                <a:gridCol w="747720"/>
                <a:gridCol w="747720"/>
                <a:gridCol w="750600"/>
                <a:gridCol w="746280"/>
                <a:gridCol w="7477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191120" y="3429000"/>
          <a:ext cx="2895480" cy="53352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761760"/>
                <a:gridCol w="762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457200" y="29718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2640" y="2855880"/>
            <a:ext cx="68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[0]       p[1]      p[2]      p[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67080" y="4343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mpleStringSear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[0]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t[1]        t[2]       t[3]       t[4]       t[5]      t[6]       t[7]      t[8]       t[9]       t1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57200" y="2057400"/>
          <a:ext cx="8229600" cy="685800"/>
        </p:xfrm>
        <a:graphic>
          <a:graphicData uri="http://schemas.openxmlformats.org/drawingml/2006/table">
            <a:tbl>
              <a:tblPr/>
              <a:tblGrid>
                <a:gridCol w="747720"/>
                <a:gridCol w="746280"/>
                <a:gridCol w="750600"/>
                <a:gridCol w="747720"/>
                <a:gridCol w="747720"/>
                <a:gridCol w="749520"/>
                <a:gridCol w="747720"/>
                <a:gridCol w="747720"/>
                <a:gridCol w="750600"/>
                <a:gridCol w="746280"/>
                <a:gridCol w="7477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4191120" y="3429000"/>
          <a:ext cx="2895480" cy="53352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761760"/>
                <a:gridCol w="762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457200" y="29718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2640" y="2855880"/>
            <a:ext cx="68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[0]       p[1]      p[2]      p[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67080" y="4343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mpleStringSear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[0]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t[1]        t[2]       t[3]       t[4]       t[5]      t[6]       t[7]      t[8]       t[9]       t1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57200" y="2057400"/>
          <a:ext cx="8229600" cy="685800"/>
        </p:xfrm>
        <a:graphic>
          <a:graphicData uri="http://schemas.openxmlformats.org/drawingml/2006/table">
            <a:tbl>
              <a:tblPr/>
              <a:tblGrid>
                <a:gridCol w="747720"/>
                <a:gridCol w="746280"/>
                <a:gridCol w="750600"/>
                <a:gridCol w="747720"/>
                <a:gridCol w="747720"/>
                <a:gridCol w="749520"/>
                <a:gridCol w="747720"/>
                <a:gridCol w="747720"/>
                <a:gridCol w="750600"/>
                <a:gridCol w="746280"/>
                <a:gridCol w="7477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4952880" y="3429000"/>
          <a:ext cx="2971800" cy="533520"/>
        </p:xfrm>
        <a:graphic>
          <a:graphicData uri="http://schemas.openxmlformats.org/drawingml/2006/table">
            <a:tbl>
              <a:tblPr/>
              <a:tblGrid>
                <a:gridCol w="762120"/>
                <a:gridCol w="685800"/>
                <a:gridCol w="838080"/>
                <a:gridCol w="6858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457200" y="29718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0120" y="2855880"/>
            <a:ext cx="746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[0]       p[1]      p[2]      p[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4343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91320" y="4343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400800" y="4343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38880" y="4343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raightforward string search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st c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ttern string always matches completely except for last charact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ample: search for XXXXXXY in target string of XXXXXXXXXXXXXXXXXXX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uter loop executed once for every character in target st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ner loop executed once for every character in patter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|p| * |t|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kay if patterns are short, but better algorithms exi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nuth-Morris-Prat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|p| * |t|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id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pattern fails to match, slide pattern to right by as many boxes as possible without permitting a match to go unnotic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nuth-Morris-Prat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[0]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t[1]        t[2]       t[3]       t[4]       t[5]      t[6]       t[7]      t[8]       t[9]       t1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57200" y="2057400"/>
          <a:ext cx="8229600" cy="685800"/>
        </p:xfrm>
        <a:graphic>
          <a:graphicData uri="http://schemas.openxmlformats.org/drawingml/2006/table">
            <a:tbl>
              <a:tblPr/>
              <a:tblGrid>
                <a:gridCol w="747720"/>
                <a:gridCol w="746280"/>
                <a:gridCol w="750600"/>
                <a:gridCol w="747720"/>
                <a:gridCol w="747720"/>
                <a:gridCol w="749520"/>
                <a:gridCol w="747720"/>
                <a:gridCol w="747720"/>
                <a:gridCol w="750600"/>
                <a:gridCol w="746280"/>
                <a:gridCol w="7477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457200" y="29718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29718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[0]       p[1]      p[2]      p[3]      p[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44197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05740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819520" y="44197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533520" y="3505320"/>
          <a:ext cx="3657600" cy="609480"/>
        </p:xfrm>
        <a:graphic>
          <a:graphicData uri="http://schemas.openxmlformats.org/drawingml/2006/table">
            <a:tbl>
              <a:tblPr/>
              <a:tblGrid>
                <a:gridCol w="685800"/>
                <a:gridCol w="742680"/>
                <a:gridCol w="738360"/>
                <a:gridCol w="728640"/>
                <a:gridCol w="7621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358128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981080" y="4876920"/>
          <a:ext cx="3657600" cy="583920"/>
        </p:xfrm>
        <a:graphic>
          <a:graphicData uri="http://schemas.openxmlformats.org/drawingml/2006/table">
            <a:tbl>
              <a:tblPr/>
              <a:tblGrid>
                <a:gridCol w="685800"/>
                <a:gridCol w="762120"/>
                <a:gridCol w="762120"/>
                <a:gridCol w="761760"/>
                <a:gridCol w="68580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2057400" y="56768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43200" y="56768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81280" y="56768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343400" y="56768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181480" y="56768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14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mon word processor facility is to search for a given word in a document.   Generally, the problem is to search for occurrences of a short string in a long string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ring Sear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4343400"/>
            <a:ext cx="63882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52000" y="4343400"/>
            <a:ext cx="6399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7ff"/>
                </a:solidFill>
                <a:latin typeface="Courier New"/>
              </a:rPr>
              <a:t>Do </a:t>
            </a:r>
            <a:r>
              <a:rPr b="0" lang="en-US" sz="2400" spc="-1" strike="noStrike" u="sng">
                <a:solidFill>
                  <a:srgbClr val="6767ff"/>
                </a:solidFill>
                <a:uFillTx/>
                <a:latin typeface="Courier New"/>
              </a:rPr>
              <a:t>the</a:t>
            </a:r>
            <a:r>
              <a:rPr b="0" lang="en-US" sz="2400" spc="-1" strike="noStrike">
                <a:solidFill>
                  <a:srgbClr val="6767ff"/>
                </a:solidFill>
                <a:latin typeface="Courier New"/>
              </a:rPr>
              <a:t> first </a:t>
            </a:r>
            <a:r>
              <a:rPr b="0" lang="en-US" sz="2400" spc="-1" strike="noStrike" u="sng">
                <a:solidFill>
                  <a:srgbClr val="6767ff"/>
                </a:solidFill>
                <a:uFillTx/>
                <a:latin typeface="Courier New"/>
              </a:rPr>
              <a:t>the</a:t>
            </a:r>
            <a:r>
              <a:rPr b="0" lang="en-US" sz="2400" spc="-1" strike="noStrike">
                <a:solidFill>
                  <a:srgbClr val="6767ff"/>
                </a:solidFill>
                <a:latin typeface="Courier New"/>
              </a:rPr>
              <a:t>n do </a:t>
            </a:r>
            <a:r>
              <a:rPr b="0" lang="en-US" sz="2400" spc="-1" strike="noStrike" u="sng">
                <a:solidFill>
                  <a:srgbClr val="6767ff"/>
                </a:solidFill>
                <a:uFillTx/>
                <a:latin typeface="Courier New"/>
              </a:rPr>
              <a:t>the</a:t>
            </a:r>
            <a:r>
              <a:rPr b="0" lang="en-US" sz="2400" spc="-1" strike="noStrike">
                <a:solidFill>
                  <a:srgbClr val="6767ff"/>
                </a:solidFill>
                <a:latin typeface="Courier New"/>
              </a:rPr>
              <a:t> o</a:t>
            </a:r>
            <a:r>
              <a:rPr b="0" lang="en-US" sz="2400" spc="-1" strike="noStrike" u="sng">
                <a:solidFill>
                  <a:srgbClr val="6767ff"/>
                </a:solidFill>
                <a:uFillTx/>
                <a:latin typeface="Courier New"/>
              </a:rPr>
              <a:t>the</a:t>
            </a:r>
            <a:r>
              <a:rPr b="0" lang="en-US" sz="2400" spc="-1" strike="noStrike">
                <a:solidFill>
                  <a:srgbClr val="6767ff"/>
                </a:solidFill>
                <a:latin typeface="Courier New"/>
              </a:rPr>
              <a:t>r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4343400"/>
            <a:ext cx="67284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90000" y="4343400"/>
            <a:ext cx="73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7ff"/>
                </a:solidFill>
                <a:latin typeface="Courier New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nuth-Morris Prat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 motion of pattern depends on both location of mismatch and the mismatching chara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 =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: move 2 boxes to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 =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: move 5 boxes to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 =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 : target found; alg termin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nuth-Morris-Prat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determine d, number of boxes to right pattern should move; smallest d such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[0] = t[k+d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[1] = t[k+d+1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[2] = t[k+d+2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[i-d] = t[k+i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nuth-Morris-Prat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can be stated largely in terms of pattern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of d depends only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patter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value of 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mismatching character c (at t[k+i]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nuth-Morris-Prat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define a function KMPskip(p,i,c) to give correct 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turn smallest integer d such that 0 &lt;= d &lt;=I, such that p[i-d] == c and p[j] == p[j+d] for each 0 &lt;=j &lt;= i-di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turn i+1 if no such d exis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all values of KMPskip for pattern p and store it in KMPskip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lookup at each mis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nuth-Morris-Prat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181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pattern ABC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828800" y="2971800"/>
          <a:ext cx="2895480" cy="3083040"/>
        </p:xfrm>
        <a:graphic>
          <a:graphicData uri="http://schemas.openxmlformats.org/drawingml/2006/table">
            <a:tbl>
              <a:tblPr/>
              <a:tblGrid>
                <a:gridCol w="723960"/>
                <a:gridCol w="723600"/>
                <a:gridCol w="723960"/>
                <a:gridCol w="723960"/>
              </a:tblGrid>
              <a:tr h="61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2134800" y="2317680"/>
            <a:ext cx="21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    B     C    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2971800"/>
            <a:ext cx="1371600" cy="32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nuth-Morris-Prat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56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pattern XYXYZ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209680" y="2666880"/>
          <a:ext cx="3657600" cy="3540240"/>
        </p:xfrm>
        <a:graphic>
          <a:graphicData uri="http://schemas.openxmlformats.org/drawingml/2006/table">
            <a:tbl>
              <a:tblPr/>
              <a:tblGrid>
                <a:gridCol w="731520"/>
                <a:gridCol w="731520"/>
                <a:gridCol w="731520"/>
                <a:gridCol w="731520"/>
                <a:gridCol w="731520"/>
              </a:tblGrid>
              <a:tr h="88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>
            <a:off x="2180880" y="209700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     Y      X      Y     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4920" y="27432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2743200"/>
            <a:ext cx="1143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nuth-Morris-Prat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KMPSearch(str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 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Fi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return its location or -1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not a substring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MPskiparray &lt;- ComputeKMPskiparray(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-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-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 &lt; Length(t) – Length(p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== Length(p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retur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MPskiparray[I,t[k+i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 &lt;- k +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&lt;- I + 1 –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Boyer-Moore Algorith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to KMP in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ttern compared against targ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n mismatch, move as far to right as possi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from KMP in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pare the patterns from right to left instead of left to righ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that make a dif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Yes!! – much faster on long targets; many characters in target string are never examined at al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oyer-Moore examp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[0]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t[1]        t[2]       t[3]       t[4]       t[5]      t[6]       t[7]      t[8]       t[9]       t1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57200" y="2057400"/>
          <a:ext cx="8229600" cy="685800"/>
        </p:xfrm>
        <a:graphic>
          <a:graphicData uri="http://schemas.openxmlformats.org/drawingml/2006/table">
            <a:tbl>
              <a:tblPr/>
              <a:tblGrid>
                <a:gridCol w="747720"/>
                <a:gridCol w="746280"/>
                <a:gridCol w="750600"/>
                <a:gridCol w="747720"/>
                <a:gridCol w="747720"/>
                <a:gridCol w="749520"/>
                <a:gridCol w="747720"/>
                <a:gridCol w="747720"/>
                <a:gridCol w="750600"/>
                <a:gridCol w="746280"/>
                <a:gridCol w="7477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457200" y="3429000"/>
          <a:ext cx="2971800" cy="533520"/>
        </p:xfrm>
        <a:graphic>
          <a:graphicData uri="http://schemas.openxmlformats.org/drawingml/2006/table">
            <a:tbl>
              <a:tblPr/>
              <a:tblGrid>
                <a:gridCol w="743040"/>
                <a:gridCol w="742680"/>
                <a:gridCol w="743040"/>
                <a:gridCol w="74304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"/>
          <p:cNvSpPr/>
          <p:nvPr/>
        </p:nvSpPr>
        <p:spPr>
          <a:xfrm>
            <a:off x="457200" y="29718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38120" y="2855880"/>
            <a:ext cx="29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[0]       p[1]      p[2]      p[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819520" y="44197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51814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no E in the pattern : thus the pattern can’t match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racters lie under t[3].  So, move four boxes to the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oyer-Moore examp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[0]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t[1]        t[2]       t[3]       t[4]       t[5]      t[6]       t[7]      t[8]       t[9]       t1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57200" y="2057400"/>
          <a:ext cx="8229600" cy="685800"/>
        </p:xfrm>
        <a:graphic>
          <a:graphicData uri="http://schemas.openxmlformats.org/drawingml/2006/table">
            <a:tbl>
              <a:tblPr/>
              <a:tblGrid>
                <a:gridCol w="747720"/>
                <a:gridCol w="746280"/>
                <a:gridCol w="750600"/>
                <a:gridCol w="747720"/>
                <a:gridCol w="747720"/>
                <a:gridCol w="749520"/>
                <a:gridCol w="747720"/>
                <a:gridCol w="747720"/>
                <a:gridCol w="750600"/>
                <a:gridCol w="746280"/>
                <a:gridCol w="7477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3429000" y="3429000"/>
          <a:ext cx="3048120" cy="5335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57200" y="29718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2971800"/>
            <a:ext cx="30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[0]       p[1]      p[2]      p[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86728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518148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no match.  But there is a B in the pattern.  So move two boxes to the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istory of String Sear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144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rute force algorith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648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vented in the dawn of computer histo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0648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-invented many times,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still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comm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144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uth &amp; Pratt invented a better one in 19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648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vented independently by Morr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0648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ublished 1976 as “Knuth-Morris-Pratt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144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yer &amp; Moore found a better one before 19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648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nd independently by Gosp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144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rp &amp; Rabin found a “better” one in 19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oyer-Moore examp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[0]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t[1]        t[2]       t[3]       t[4]       t[5]      t[6]       t[7]      t[8]       t[9]       t1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457200" y="2057400"/>
          <a:ext cx="8229600" cy="685800"/>
        </p:xfrm>
        <a:graphic>
          <a:graphicData uri="http://schemas.openxmlformats.org/drawingml/2006/table">
            <a:tbl>
              <a:tblPr/>
              <a:tblGrid>
                <a:gridCol w="747720"/>
                <a:gridCol w="746280"/>
                <a:gridCol w="750600"/>
                <a:gridCol w="747720"/>
                <a:gridCol w="747720"/>
                <a:gridCol w="749520"/>
                <a:gridCol w="747720"/>
                <a:gridCol w="747720"/>
                <a:gridCol w="750600"/>
                <a:gridCol w="746280"/>
                <a:gridCol w="7477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5029200" y="3429000"/>
          <a:ext cx="2895480" cy="53352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762120"/>
                <a:gridCol w="761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"/>
          <p:cNvSpPr/>
          <p:nvPr/>
        </p:nvSpPr>
        <p:spPr>
          <a:xfrm>
            <a:off x="457200" y="29718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25960" y="2895480"/>
            <a:ext cx="29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[0]       p[1]      p[2]      p[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238880" y="4343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553080" y="4343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91320" y="4343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05520" y="4343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oyer-Moore : another examp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[k]    t[k+1]    …                t[k+i]                                 t[k+m-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57200" y="2057400"/>
          <a:ext cx="8229600" cy="685800"/>
        </p:xfrm>
        <a:graphic>
          <a:graphicData uri="http://schemas.openxmlformats.org/drawingml/2006/table">
            <a:tbl>
              <a:tblPr/>
              <a:tblGrid>
                <a:gridCol w="747720"/>
                <a:gridCol w="746280"/>
                <a:gridCol w="750600"/>
                <a:gridCol w="747720"/>
                <a:gridCol w="747720"/>
                <a:gridCol w="749520"/>
                <a:gridCol w="747720"/>
                <a:gridCol w="747720"/>
                <a:gridCol w="750600"/>
                <a:gridCol w="746280"/>
                <a:gridCol w="7477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1219320" y="3429000"/>
          <a:ext cx="6705360" cy="533520"/>
        </p:xfrm>
        <a:graphic>
          <a:graphicData uri="http://schemas.openxmlformats.org/drawingml/2006/table">
            <a:tbl>
              <a:tblPr/>
              <a:tblGrid>
                <a:gridCol w="761760"/>
                <a:gridCol w="685800"/>
                <a:gridCol w="838440"/>
                <a:gridCol w="685800"/>
                <a:gridCol w="761760"/>
                <a:gridCol w="762120"/>
                <a:gridCol w="762120"/>
                <a:gridCol w="685800"/>
                <a:gridCol w="761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457200" y="29718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295280" y="2895480"/>
            <a:ext cx="66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[0]       p[1]    …       p[i-1]      p[i]     p[i+1]    …                 p[m-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238880" y="4343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553080" y="4343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91320" y="4343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05520" y="4343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67080" y="4343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9480" y="49528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: determine d, the number of  boxes that the pattern can be moved to the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9480" y="594360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should be smallest integer such that t[k+m-1]= p[m-1-d], t[k+m-2] = p[m-2-d], … t[k+i] = p[i-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Boyer-Moore Algorith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a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 should be smallest integer such that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[k+m-1] = p[m-1-d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[k+m-2] = p[m-2-d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[k+i] = p[i-d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minder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 = starting index in target str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 = length of patter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 = index of mismatch in pattern str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blem: statement is valid only for d&lt;= 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ed to ensure that we don’t “fall off” the left edge of the patter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oyer-Moore : another examp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[k]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t[k+5]                                 t[k+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457200" y="2057400"/>
          <a:ext cx="8229600" cy="685800"/>
        </p:xfrm>
        <a:graphic>
          <a:graphicData uri="http://schemas.openxmlformats.org/drawingml/2006/table">
            <a:tbl>
              <a:tblPr/>
              <a:tblGrid>
                <a:gridCol w="747720"/>
                <a:gridCol w="746280"/>
                <a:gridCol w="750600"/>
                <a:gridCol w="747720"/>
                <a:gridCol w="747720"/>
                <a:gridCol w="749520"/>
                <a:gridCol w="747720"/>
                <a:gridCol w="747720"/>
                <a:gridCol w="750600"/>
                <a:gridCol w="746280"/>
                <a:gridCol w="7477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1219320" y="3429000"/>
          <a:ext cx="6705360" cy="533520"/>
        </p:xfrm>
        <a:graphic>
          <a:graphicData uri="http://schemas.openxmlformats.org/drawingml/2006/table">
            <a:tbl>
              <a:tblPr/>
              <a:tblGrid>
                <a:gridCol w="761760"/>
                <a:gridCol w="685800"/>
                <a:gridCol w="838440"/>
                <a:gridCol w="685800"/>
                <a:gridCol w="761760"/>
                <a:gridCol w="762120"/>
                <a:gridCol w="762120"/>
                <a:gridCol w="685800"/>
                <a:gridCol w="761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"/>
          <p:cNvSpPr/>
          <p:nvPr/>
        </p:nvSpPr>
        <p:spPr>
          <a:xfrm>
            <a:off x="457200" y="29718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2895480"/>
            <a:ext cx="66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[0]       p[1]     p[2]      p[3]     p[4]     p[5]      p[6]      p[7]    p[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238880" y="4343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553080" y="4343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791320" y="4343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5520" y="4343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51814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c == W, then d should b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0880" y="586728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c == R, then d should b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BMPSkip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|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ny charact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an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that 0&lt;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, defi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MPSkip(p,i,c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amount the pattern can move to the right when characters i+1 through m-1 of the pattern match corresponding characters in the target but p[i] doesn’t match character c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BMPSkip(p,I,c) should return the smallest d such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p[j]= p[j-d]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for all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j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max(i+1,d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&lt;=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j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&lt;=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m-1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, an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p[i-d]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d&lt;= 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oyer-Moo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181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pattern ABC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828800" y="2971800"/>
          <a:ext cx="2895480" cy="3083040"/>
        </p:xfrm>
        <a:graphic>
          <a:graphicData uri="http://schemas.openxmlformats.org/drawingml/2006/table">
            <a:tbl>
              <a:tblPr/>
              <a:tblGrid>
                <a:gridCol w="723960"/>
                <a:gridCol w="723600"/>
                <a:gridCol w="723960"/>
                <a:gridCol w="723960"/>
              </a:tblGrid>
              <a:tr h="61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"/>
          <p:cNvSpPr/>
          <p:nvPr/>
        </p:nvSpPr>
        <p:spPr>
          <a:xfrm>
            <a:off x="2134800" y="2317680"/>
            <a:ext cx="21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    B     C    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04920" y="2971800"/>
            <a:ext cx="1371600" cy="32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05520" y="25146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- if the position in the pattern is this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971800"/>
            <a:ext cx="1143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 mis-matching  character in the target is this -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029200" y="38862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kip this many space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oyer-Moo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56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pattern XYXYZ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2209680" y="2666880"/>
          <a:ext cx="3657600" cy="3540240"/>
        </p:xfrm>
        <a:graphic>
          <a:graphicData uri="http://schemas.openxmlformats.org/drawingml/2006/table">
            <a:tbl>
              <a:tblPr/>
              <a:tblGrid>
                <a:gridCol w="731520"/>
                <a:gridCol w="731520"/>
                <a:gridCol w="731520"/>
                <a:gridCol w="731520"/>
                <a:gridCol w="731520"/>
              </a:tblGrid>
              <a:tr h="88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"/>
          <p:cNvSpPr/>
          <p:nvPr/>
        </p:nvSpPr>
        <p:spPr>
          <a:xfrm>
            <a:off x="2180880" y="209700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     Y      X      Y     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27432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2743200"/>
            <a:ext cx="1143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95880" y="22860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If the position in the pattern is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2743200"/>
            <a:ext cx="1219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 mis-matching character in the target is this --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172200" y="35812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kip this many spa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ies in the Boyer-Moore arrays are generally larger than with KMP; thus, the pattern will move 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not consulted on a match (thus, the blank entr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MSear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MSear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tr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,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: 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Fi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return its location or -1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not a substring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MSkiparray &lt;- ComputeBMSkipArray(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-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ngth(t) – Length(p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ngth(p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= 0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[i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[k+i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= -1 then retur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BMSkiparray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,t[k+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Karp-Rabin Algorithm Ide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144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rp &amp; Rabin found an algorithm which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648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most as fast as Boyer-Moo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0648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mple enough to understand easil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0648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n be adapted for 2-dimensional searches for patterns in pictur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14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back to the brute force idea, but now use a single number to represent the word you are searching for, and a single number for the current portion of the document you are comparing agains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bvious algorithm is to try the word at each possible place, and compare all the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for  </a:t>
            </a:r>
            <a:r>
              <a:rPr b="0" i="1" lang="en-US" sz="25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 := </a:t>
            </a:r>
            <a:r>
              <a:rPr b="0" i="1" lang="en-US" sz="25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  to  </a:t>
            </a:r>
            <a:r>
              <a:rPr b="0" i="1" lang="en-US" sz="2500" spc="-1" strike="noStrike">
                <a:solidFill>
                  <a:srgbClr val="ff0000"/>
                </a:solidFill>
                <a:latin typeface="Arial"/>
              </a:rPr>
              <a:t>n-m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  do</a:t>
            </a:r>
            <a:r>
              <a:rPr b="0" lang="en-US" sz="2500" spc="-1" strike="noStrike">
                <a:solidFill>
                  <a:srgbClr val="ffc5c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c5c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(doc length 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35000"/>
              </a:lnSpc>
              <a:spcBef>
                <a:spcPts val="575"/>
              </a:spcBef>
              <a:spcAft>
                <a:spcPts val="862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Book Antiqua"/>
              </a:rPr>
              <a:t>for  </a:t>
            </a:r>
            <a:r>
              <a:rPr b="0" i="1" lang="en-US" sz="2600" spc="-1" strike="noStrike">
                <a:solidFill>
                  <a:srgbClr val="ff0000"/>
                </a:solidFill>
                <a:latin typeface="Book Antiqua"/>
              </a:rPr>
              <a:t>j</a:t>
            </a:r>
            <a:r>
              <a:rPr b="0" lang="en-US" sz="2600" spc="-1" strike="noStrike">
                <a:solidFill>
                  <a:srgbClr val="ff0000"/>
                </a:solidFill>
                <a:latin typeface="Book Antiqua"/>
              </a:rPr>
              <a:t> := </a:t>
            </a:r>
            <a:r>
              <a:rPr b="0" i="1" lang="en-US" sz="2600" spc="-1" strike="noStrike">
                <a:solidFill>
                  <a:srgbClr val="ff0000"/>
                </a:solidFill>
                <a:latin typeface="Book Antiqua"/>
              </a:rPr>
              <a:t>0</a:t>
            </a:r>
            <a:r>
              <a:rPr b="0" lang="en-US" sz="2600" spc="-1" strike="noStrike">
                <a:solidFill>
                  <a:srgbClr val="ff0000"/>
                </a:solidFill>
                <a:latin typeface="Book Antiqua"/>
              </a:rPr>
              <a:t>  to  </a:t>
            </a:r>
            <a:r>
              <a:rPr b="0" i="1" lang="en-US" sz="2600" spc="-1" strike="noStrike">
                <a:solidFill>
                  <a:srgbClr val="ff0000"/>
                </a:solidFill>
                <a:latin typeface="Book Antiqua"/>
              </a:rPr>
              <a:t>m-1 </a:t>
            </a:r>
            <a:r>
              <a:rPr b="0" lang="en-US" sz="2600" spc="-1" strike="noStrike">
                <a:solidFill>
                  <a:srgbClr val="ff0000"/>
                </a:solidFill>
                <a:latin typeface="Book Antiqua"/>
              </a:rPr>
              <a:t>do</a:t>
            </a:r>
            <a:r>
              <a:rPr b="0" lang="en-US" sz="2600" spc="-1" strike="noStrike">
                <a:solidFill>
                  <a:srgbClr val="ffc5cf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ffc5cf"/>
                </a:solidFill>
                <a:latin typeface="Book Antiqua"/>
              </a:rPr>
              <a:t>	</a:t>
            </a:r>
            <a:r>
              <a:rPr b="0" lang="en-US" sz="2300" spc="-1" strike="noStrike">
                <a:solidFill>
                  <a:srgbClr val="0000ff"/>
                </a:solidFill>
                <a:latin typeface="Book Antiqua"/>
              </a:rPr>
              <a:t>(word length m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35000"/>
              </a:lnSpc>
              <a:spcBef>
                <a:spcPts val="649"/>
              </a:spcBef>
              <a:spcAft>
                <a:spcPts val="97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just">
              <a:lnSpc>
                <a:spcPct val="35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compare </a:t>
            </a:r>
            <a:r>
              <a:rPr b="0" i="1" lang="en-US" sz="2400" spc="-1" strike="noStrike">
                <a:solidFill>
                  <a:srgbClr val="ff0000"/>
                </a:solidFill>
                <a:latin typeface="Book Antiqua"/>
              </a:rPr>
              <a:t>word[j] 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with </a:t>
            </a:r>
            <a:r>
              <a:rPr b="0" i="1" lang="en-US" sz="2400" spc="-1" strike="noStrike">
                <a:solidFill>
                  <a:srgbClr val="ff0000"/>
                </a:solidFill>
                <a:latin typeface="Book Antiqua"/>
              </a:rPr>
              <a:t>doc[i+j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just">
              <a:lnSpc>
                <a:spcPct val="35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just">
              <a:lnSpc>
                <a:spcPct val="35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if not equal, exit the inner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lexity is at worst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(m*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best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(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Karp-Rabin Algorith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are searching for 4-letter words. Then the whole (English) word fits in one (computer) word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4 bytes.  If the current 4 bytes of the document are also in one word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single comparison can match the two in one step.  To move along the document, shift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add in the next charac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onger words, use hashing.  The characters of the word and the document are combined into single hash numbers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w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d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hash number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d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updated by doing a suitable sum and adding in the code for the next charac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mproving String Sear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14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prisingly, there is a faster algorithm where you compare the last characters fir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048120"/>
            <a:ext cx="638820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84960" y="2971800"/>
            <a:ext cx="6399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767ff"/>
                </a:solidFill>
                <a:uFillTx/>
                <a:latin typeface="Courier New"/>
              </a:rPr>
              <a:t>Do </a:t>
            </a:r>
            <a:r>
              <a:rPr b="0" lang="en-US" sz="2400" spc="-1" strike="noStrike">
                <a:solidFill>
                  <a:srgbClr val="6767ff"/>
                </a:solidFill>
                <a:latin typeface="Courier New"/>
              </a:rPr>
              <a:t>the first then do the other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3657600"/>
            <a:ext cx="6732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65960" y="3581280"/>
            <a:ext cx="73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7ff"/>
                </a:solidFill>
                <a:latin typeface="Courier New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20000" y="3962520"/>
            <a:ext cx="6859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compare</a:t>
            </a:r>
            <a:r>
              <a:rPr b="0" lang="en-US" sz="2400" spc="-1" strike="noStrike">
                <a:solidFill>
                  <a:srgbClr val="ffc5c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‘e’ with ‘  ‘, fail so move along 3 p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9480" y="4730760"/>
            <a:ext cx="638784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30760" y="4708440"/>
            <a:ext cx="6399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7ff"/>
                </a:solidFill>
                <a:latin typeface="Courier New"/>
              </a:rPr>
              <a:t>Do the fi</a:t>
            </a:r>
            <a:r>
              <a:rPr b="0" lang="en-US" sz="2400" spc="-1" strike="noStrike" u="sng">
                <a:solidFill>
                  <a:srgbClr val="6767ff"/>
                </a:solidFill>
                <a:uFillTx/>
                <a:latin typeface="Courier New"/>
              </a:rPr>
              <a:t>rst</a:t>
            </a:r>
            <a:r>
              <a:rPr b="0" lang="en-US" sz="2400" spc="-1" strike="noStrike">
                <a:solidFill>
                  <a:srgbClr val="6767ff"/>
                </a:solidFill>
                <a:latin typeface="Courier New"/>
              </a:rPr>
              <a:t> then do the other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25640" y="5264280"/>
            <a:ext cx="67320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06560" y="5241960"/>
            <a:ext cx="73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7ff"/>
                </a:solidFill>
                <a:latin typeface="Courier New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17200" y="5241960"/>
            <a:ext cx="4375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can only move along 2 p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mproved string search, continue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very case where the document character is not one of the characters in the word, we can move along m places.  Sometimes, it is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oblem Definition, terminolog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the pattern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the target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k be the index of the character in the target string that “lies over” the first character of the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wo string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ver the alphab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etermine whether p occurs as the substring of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s, determine whether there exis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t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Substring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|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raightforward string search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mpleStringSear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tring p,t)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Fi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return its location or -1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not a substring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0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ngth(t) – Length(p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&lt;-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i &l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ngth(p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[i] = t[k+i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&lt;- i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 =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ngth(p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retur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mpleStringSear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[0]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t[1]        t[2]       t[3]       t[4]       t[5]      t[6]       t[7]      t[8]       t[9]       t1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2057400"/>
          <a:ext cx="8229600" cy="685800"/>
        </p:xfrm>
        <a:graphic>
          <a:graphicData uri="http://schemas.openxmlformats.org/drawingml/2006/table">
            <a:tbl>
              <a:tblPr/>
              <a:tblGrid>
                <a:gridCol w="747720"/>
                <a:gridCol w="746280"/>
                <a:gridCol w="750600"/>
                <a:gridCol w="747720"/>
                <a:gridCol w="747720"/>
                <a:gridCol w="749520"/>
                <a:gridCol w="747720"/>
                <a:gridCol w="747720"/>
                <a:gridCol w="750600"/>
                <a:gridCol w="746280"/>
                <a:gridCol w="7477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457200" y="3429000"/>
          <a:ext cx="2971800" cy="533520"/>
        </p:xfrm>
        <a:graphic>
          <a:graphicData uri="http://schemas.openxmlformats.org/drawingml/2006/table">
            <a:tbl>
              <a:tblPr/>
              <a:tblGrid>
                <a:gridCol w="743040"/>
                <a:gridCol w="742680"/>
                <a:gridCol w="743040"/>
                <a:gridCol w="74304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457200" y="29718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8120" y="2855880"/>
            <a:ext cx="29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[0]       p[1]      p[2]      p[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44197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19520" y="44197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8:44:43Z</dcterms:created>
  <dc:creator>Eileen Kraemer</dc:creator>
  <dc:description/>
  <dc:language>en-US</dc:language>
  <cp:lastModifiedBy>Visualization Lab</cp:lastModifiedBy>
  <dcterms:modified xsi:type="dcterms:W3CDTF">2005-03-20T04:05:01Z</dcterms:modified>
  <cp:revision>11</cp:revision>
  <dc:subject/>
  <dc:title>String Searching</dc:title>
</cp:coreProperties>
</file>